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7.png" ContentType="image/png"/>
  <Override PartName="/ppt/media/image1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6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D922D-B6DB-422E-9AE5-3B832867C7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F498A-E972-4138-8F8E-60F7A45CDA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C230-5DB3-4CF8-B46E-94EB0F543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9218-C4CD-4693-B32D-0A312FAE2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7FEB-503F-47E2-8350-376B25719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1010-5B09-496B-BF4E-CD753D9FF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30C6-8FA8-41F7-9020-5B5EDDDCF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2AFF-BE07-48D3-961E-05118952A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532C-A09C-4964-989B-1F4D530BA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C20F-1AE3-4DD2-A6EC-DA153AA99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0D97-820D-42C9-9E7D-B0A90F2E4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1303-A7EA-4148-A40B-F0EAC78A5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F4A9-7D92-4B80-9742-0A84172D6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E004-4B77-4D4F-9D4F-60B578E52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47942-3404-46D7-8495-AFCC6BFC3F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images.fanpop.com/images/image_uploads/Dunder-Mifflin-the-office-342660_1024_76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y Eamonn Stewart, Evan Cohen, and Mathew Part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http://www.michaelscottpapercompany.com/images/ms_main_left.jpg"/>
          <p:cNvPicPr/>
          <p:nvPr/>
        </p:nvPicPr>
        <p:blipFill>
          <a:blip r:embed="rId2"/>
          <a:stretch/>
        </p:blipFill>
        <p:spPr>
          <a:xfrm>
            <a:off x="3581280" y="5445000"/>
            <a:ext cx="175284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7.40741E-007 C -0.00086 -0.10555 -0.01128 -0.3118 0.00157 -0.41713 C 0.00209 -0.53333 0.00209 -0.64907 0.0033 -0.76528 C 0.00365 -0.79467 0.00296 -0.8243 0.00643 -0.85347 C 0.00678 -0.85694 0.01112 -0.84954 0.01285 -0.84699 C 0.01702 -0.84097 0.02032 -0.83426 0.02414 -0.82778 C 0.03698 -0.80579 0.0533 -0.78634 0.06615 -0.76319 C 0.0783 -0.74143 0.0908 -0.72037 0.1033 -0.69884 C 0.12466 -0.66157 0.13716 -0.61134 0.14844 -0.56782 C 0.14896 -0.5625 0.14844 -0.55741 0.15 -0.55254 C 0.15122 -0.54907 0.15521 -0.54745 0.15643 -0.54375 C 0.16042 -0.53102 0.16129 -0.50532 0.16771 -0.49213 C 0.16962 -0.48842 0.1724 -0.48542 0.17414 -0.48171 C 0.1757 -0.47824 0.1757 -0.47407 0.17743 -0.47083 C 0.19862 -0.43079 0.17257 -0.49074 0.19202 -0.44722 C 0.19757 -0.43449 0.20487 -0.42361 0.20973 -0.41042 C 0.21129 -0.40625 0.2125 -0.40162 0.21459 -0.39768 C 0.21684 -0.39352 0.22032 -0.39097 0.22257 -0.3868 C 0.23473 -0.36504 0.23976 -0.33773 0.25157 -0.31597 C 0.25434 -0.30579 0.25921 -0.29745 0.26285 -0.28819 C 0.2698 -0.26967 0.27188 -0.24629 0.28542 -0.23426 C 0.28803 -0.22083 0.28733 -0.22037 0.27743 -0.21713 C 0.26216 -0.21944 0.24671 -0.22639 0.2323 -0.23426 C 0.22362 -0.23912 0.21563 -0.24699 0.20643 -0.2493 C 0.18698 -0.25486 0.16841 -0.26342 0.14844 -0.26643 C 0.13803 -0.27245 0.12813 -0.27407 0.11771 -0.2794 C 0.07639 -0.30092 0.03559 -0.32199 -0.00798 -0.3331 C -0.02586 -0.34213 -0.04444 -0.35301 -0.06284 -0.36111 C -0.06805 -0.36342 -0.07864 -0.3662 -0.08385 -0.36991 C -0.09427 -0.37662 -0.10468 -0.38194 -0.11614 -0.38472 C -0.12934 -0.39375 -0.11493 -0.38518 -0.13541 -0.3912 C -0.1467 -0.39467 -0.15746 -0.39977 -0.16927 -0.40185 C -0.17829 -0.40625 -0.17239 -0.4037 -0.18715 -0.40856 C -0.19635 -0.41157 -0.18715 -0.40972 -0.19843 -0.41481 C -0.20659 -0.41852 -0.21718 -0.42361 -0.22586 -0.42546 C -0.23975 -0.42893 -0.25399 -0.43217 -0.2677 -0.43634 C -0.27204 -0.43773 -0.27621 -0.44004 -0.28055 -0.44051 C -0.28975 -0.4412 -0.29878 -0.44236 -0.30798 -0.44305 C -0.30746 -0.4456 -0.30781 -0.44907 -0.30642 -0.45139 C -0.30486 -0.45393 -0.30208 -0.45393 -0.3 -0.45579 C -0.28958 -0.46528 -0.27934 -0.47592 -0.26927 -0.48588 C -0.26007 -0.49514 -0.25208 -0.50486 -0.24184 -0.51157 C -0.23767 -0.51435 -0.23316 -0.51528 -0.22899 -0.51805 C -0.22656 -0.51991 -0.225 -0.52315 -0.22257 -0.52477 C -0.19618 -0.53819 -0.16493 -0.54051 -0.13715 -0.54375 C -0.09809 -0.5581 -0.05798 -0.56481 -0.0177 -0.56967 C 0.00973 -0.58194 -0.01388 -0.57292 0.029 -0.58055 C 0.04966 -0.58379 0.06945 -0.59028 0.09028 -0.59329 C 0.11059 -0.60417 0.08212 -0.58981 0.11615 -0.60185 C 0.12414 -0.60463 0.1323 -0.61134 0.14028 -0.61504 C 0.15035 -0.61921 0.16059 -0.62292 0.17101 -0.62546 C 0.1783 -0.63217 0.18507 -0.63565 0.19358 -0.63842 C 0.20816 -0.64815 0.22309 -0.65555 0.23872 -0.66204 C 0.25782 -0.68125 0.26077 -0.67546 0.29202 -0.67731 C 0.29948 -0.6794 0.30452 -0.68125 0.31129 -0.68611 C 0.31771 -0.67338 0.31285 -0.65509 0.31129 -0.64051 C 0.31077 -0.63634 0.31059 -0.63194 0.30973 -0.62778 C 0.30886 -0.62338 0.30643 -0.61504 0.30643 -0.61504 C 0.30434 -0.59745 0.30261 -0.57917 0.29688 -0.56319 C 0.29428 -0.54768 0.2875 -0.53449 0.2823 -0.52014 C 0.27709 -0.50648 0.27622 -0.49282 0.26771 -0.48171 C 0.26303 -0.44977 0.23212 -0.4125 0.21615 -0.3912 C 0.20053 -0.3706 0.18507 -0.34977 0.16945 -0.3287 C 0.16546 -0.32338 0.15903 -0.32292 0.15487 -0.31829 C 0.13681 -0.29653 0.12518 -0.26898 0.10643 -0.2493 C 0.10191 -0.23657 0.09445 -0.22523 0.08872 -0.21273 C 0.08282 -0.19977 0.08195 -0.18356 0.07743 -0.16991 C 0.07483 -0.16157 0.07084 -0.15185 0.06771 -0.14375 C 0.0658 -0.13935 0.06129 -0.13102 0.06129 -0.13102 C 0.05955 -0.12129 0.05591 -0.11157 0.05157 -0.10324 C 0.05053 -0.09884 0.05122 -0.09282 0.04844 -0.09004 C 0.0415 -0.08403 0.03594 -0.07685 0.029 -0.07106 C 0.025 -0.05463 0.03039 -0.07477 0.02414 -0.05787 C 0.02032 -0.04792 0.02101 -0.03727 0.01615 -0.02778 C 0.01181 -0.01065 0.01129 -0.01018 -4.16667E-006 -7.40741E-007 Z">
                                      <p:cBhvr>
                                        <p:cTn id="32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Text Placeholder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525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each in Los Ange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ext Placeholder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Las Veg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Text Placeholder 2" descr=""/>
          <p:cNvPicPr/>
          <p:nvPr/>
        </p:nvPicPr>
        <p:blipFill>
          <a:blip r:embed="rId2"/>
          <a:stretch/>
        </p:blipFill>
        <p:spPr>
          <a:xfrm>
            <a:off x="8013600" y="5181480"/>
            <a:ext cx="11304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http://www.michiganfishingonline.com/lakeerie11.jpg"/>
          <p:cNvPicPr/>
          <p:nvPr/>
        </p:nvPicPr>
        <p:blipFill>
          <a:blip r:embed="rId1"/>
          <a:stretch/>
        </p:blipFill>
        <p:spPr>
          <a:xfrm>
            <a:off x="-208080" y="30240"/>
            <a:ext cx="9748800" cy="74563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rie Hist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nded by the Iroquois Confederacy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French later built a fort there in 1753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as an important railroad hub in the 19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centur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British captured Erie after the French and Indian wa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Americans finally conquered it after the Revolutionary wa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amed after the Eriez trib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rie Physical Environ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arsh Clim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ight next to Lake Eri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Lots of precipit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ulture has been impacted by being prepared for heavy precipitation or disasters like flood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mpacted city because buildings have to be weather resistan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eople also go swimming, fishing, and sailing in Lake Erie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ome places are too deep to swim i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eople sell lots of fish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ocqueville on Eri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 said their was lots of r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 touched down at Erie at 9 a.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Erie canal was under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 departed from Erie an hour after he came so it may not have been that interesting back th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fluencing Peo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E.P.A (Environmental Protection Agency) of Erie- They help Erie’s economy by saving the fish as well as helped to stop pollution of the la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witt Clinton- He broke ground for the Erie Canal which opened up trade routes to inner America making Erie a vital 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ff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rie Tod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rge trading 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ts of fishing and water spor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ts of tourists with many hot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y amusement parks causing lots of att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ropos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e think we need to have more exports. This could be Steeler merchandise, or anyt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rie has many exports of fish because of its prime geographic location. Pittsburgh needs to make use of its rivers and do the sa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Text Placeholder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94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obbie Keane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://www.cycleworld.com/var/ezflow_site/storage/images/2011_buyers_guide/all/ural/2011_ural_patrol_gear_up_gear_up_gobi_patrol_t_t_-_new_bike_file/3602124-1-eng-US/2011_ural_patrol_gear_up_gear_up_gobi_patrol_t_t_-_new_bike_file_image_575_346.jpg"/>
          <p:cNvPicPr/>
          <p:nvPr/>
        </p:nvPicPr>
        <p:blipFill>
          <a:blip r:embed="rId2"/>
          <a:stretch/>
        </p:blipFill>
        <p:spPr>
          <a:xfrm>
            <a:off x="5486400" y="4419720"/>
            <a:ext cx="3657600" cy="24382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Vehic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3352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011 Ural motorcycle with sidec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ectric Mo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qual to 26-33 mp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an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omy sidec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uble seated motorcyc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MS900074699[1]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7893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http://drupal.miriamsexton.com/files/images/Map_of_USA_showing_unlabeled_state_boundaries.preview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5-Point Star 4"/>
          <p:cNvSpPr/>
          <p:nvPr/>
        </p:nvSpPr>
        <p:spPr>
          <a:xfrm>
            <a:off x="7315200" y="2286000"/>
            <a:ext cx="76320" cy="7632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5-Point Star 5"/>
          <p:cNvSpPr/>
          <p:nvPr/>
        </p:nvSpPr>
        <p:spPr>
          <a:xfrm>
            <a:off x="7772400" y="2209680"/>
            <a:ext cx="76320" cy="7632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Straight Arrow Connector 7"/>
          <p:cNvCxnSpPr>
            <a:stCxn id="59" idx="5"/>
            <a:endCxn id="60" idx="5"/>
          </p:cNvCxnSpPr>
          <p:nvPr/>
        </p:nvCxnSpPr>
        <p:spPr>
          <a:xfrm flipV="1">
            <a:off x="7391520" y="2237760"/>
            <a:ext cx="381600" cy="76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2" name="5-Point Star 12"/>
          <p:cNvSpPr/>
          <p:nvPr/>
        </p:nvSpPr>
        <p:spPr>
          <a:xfrm>
            <a:off x="7162920" y="2057400"/>
            <a:ext cx="152280" cy="7632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3" name="Straight Arrow Connector 14"/>
          <p:cNvCxnSpPr>
            <a:stCxn id="60" idx="6"/>
            <a:endCxn id="62" idx="5"/>
          </p:cNvCxnSpPr>
          <p:nvPr/>
        </p:nvCxnSpPr>
        <p:spPr>
          <a:xfrm flipH="1" flipV="1">
            <a:off x="7286040" y="2133000"/>
            <a:ext cx="486360" cy="105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4" name="5-Point Star 15"/>
          <p:cNvSpPr/>
          <p:nvPr/>
        </p:nvSpPr>
        <p:spPr>
          <a:xfrm>
            <a:off x="5791320" y="2286000"/>
            <a:ext cx="198360" cy="15228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520" bIns="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5" name="Straight Arrow Connector 17"/>
          <p:cNvCxnSpPr>
            <a:stCxn id="62" idx="6"/>
          </p:cNvCxnSpPr>
          <p:nvPr/>
        </p:nvCxnSpPr>
        <p:spPr>
          <a:xfrm flipH="1">
            <a:off x="5866920" y="2056320"/>
            <a:ext cx="1372320" cy="229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6" name="5-Point Star 18"/>
          <p:cNvSpPr/>
          <p:nvPr/>
        </p:nvSpPr>
        <p:spPr>
          <a:xfrm>
            <a:off x="4648320" y="2438280"/>
            <a:ext cx="152280" cy="2286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7" name="Straight Arrow Connector 20"/>
          <p:cNvCxnSpPr>
            <a:stCxn id="64" idx="5"/>
            <a:endCxn id="66" idx="5"/>
          </p:cNvCxnSpPr>
          <p:nvPr/>
        </p:nvCxnSpPr>
        <p:spPr>
          <a:xfrm flipH="1">
            <a:off x="4800240" y="2437920"/>
            <a:ext cx="1029600" cy="87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8" name="5-Point Star 21"/>
          <p:cNvSpPr/>
          <p:nvPr/>
        </p:nvSpPr>
        <p:spPr>
          <a:xfrm>
            <a:off x="3352680" y="2133720"/>
            <a:ext cx="152640" cy="2286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" name="Straight Arrow Connector 23"/>
          <p:cNvCxnSpPr>
            <a:stCxn id="66" idx="6"/>
            <a:endCxn id="68" idx="5"/>
          </p:cNvCxnSpPr>
          <p:nvPr/>
        </p:nvCxnSpPr>
        <p:spPr>
          <a:xfrm flipH="1" flipV="1">
            <a:off x="3352320" y="2220480"/>
            <a:ext cx="1372320" cy="218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0" name="5-Point Star 24"/>
          <p:cNvSpPr/>
          <p:nvPr/>
        </p:nvSpPr>
        <p:spPr>
          <a:xfrm>
            <a:off x="2209680" y="2514600"/>
            <a:ext cx="228600" cy="15228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520" bIns="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1" name="Straight Arrow Connector 26"/>
          <p:cNvCxnSpPr>
            <a:stCxn id="68" idx="6"/>
            <a:endCxn id="70" idx="5"/>
          </p:cNvCxnSpPr>
          <p:nvPr/>
        </p:nvCxnSpPr>
        <p:spPr>
          <a:xfrm flipH="1">
            <a:off x="2323440" y="2361960"/>
            <a:ext cx="1058040" cy="153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2" name="5-Point Star 27"/>
          <p:cNvSpPr/>
          <p:nvPr/>
        </p:nvSpPr>
        <p:spPr>
          <a:xfrm>
            <a:off x="533520" y="2590920"/>
            <a:ext cx="228600" cy="2286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traight Arrow Connector 29"/>
          <p:cNvCxnSpPr>
            <a:stCxn id="70" idx="6"/>
            <a:endCxn id="72" idx="5"/>
          </p:cNvCxnSpPr>
          <p:nvPr/>
        </p:nvCxnSpPr>
        <p:spPr>
          <a:xfrm flipH="1">
            <a:off x="761400" y="2572200"/>
            <a:ext cx="1448280" cy="105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4" name="5-Point Star 30"/>
          <p:cNvSpPr/>
          <p:nvPr/>
        </p:nvSpPr>
        <p:spPr>
          <a:xfrm>
            <a:off x="685800" y="3200400"/>
            <a:ext cx="152280" cy="2286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5" name="Straight Arrow Connector 32"/>
          <p:cNvCxnSpPr>
            <a:stCxn id="72" idx="6"/>
          </p:cNvCxnSpPr>
          <p:nvPr/>
        </p:nvCxnSpPr>
        <p:spPr>
          <a:xfrm>
            <a:off x="577800" y="2819520"/>
            <a:ext cx="108720" cy="381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6" name="5-Point Star 33"/>
          <p:cNvSpPr/>
          <p:nvPr/>
        </p:nvSpPr>
        <p:spPr>
          <a:xfrm>
            <a:off x="1371600" y="2895480"/>
            <a:ext cx="228600" cy="2286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7" name="Straight Arrow Connector 35"/>
          <p:cNvCxnSpPr>
            <a:stCxn id="74" idx="5"/>
            <a:endCxn id="76" idx="5"/>
          </p:cNvCxnSpPr>
          <p:nvPr/>
        </p:nvCxnSpPr>
        <p:spPr>
          <a:xfrm flipV="1">
            <a:off x="808560" y="2982240"/>
            <a:ext cx="562680" cy="446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8" name="5-Point Star 36"/>
          <p:cNvSpPr/>
          <p:nvPr/>
        </p:nvSpPr>
        <p:spPr>
          <a:xfrm>
            <a:off x="3048120" y="2743200"/>
            <a:ext cx="152280" cy="2286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9" name="Straight Arrow Connector 38"/>
          <p:cNvCxnSpPr>
            <a:stCxn id="76" idx="6"/>
            <a:endCxn id="78" idx="5"/>
          </p:cNvCxnSpPr>
          <p:nvPr/>
        </p:nvCxnSpPr>
        <p:spPr>
          <a:xfrm flipV="1">
            <a:off x="1370520" y="2971080"/>
            <a:ext cx="1801080" cy="11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0" name="Straight Arrow Connector 40"/>
          <p:cNvCxnSpPr>
            <a:stCxn id="78" idx="6"/>
            <a:endCxn id="66" idx="7"/>
          </p:cNvCxnSpPr>
          <p:nvPr/>
        </p:nvCxnSpPr>
        <p:spPr>
          <a:xfrm flipV="1">
            <a:off x="3076560" y="2666160"/>
            <a:ext cx="1696320" cy="305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1" name="5-Point Star 42"/>
          <p:cNvSpPr/>
          <p:nvPr/>
        </p:nvSpPr>
        <p:spPr>
          <a:xfrm>
            <a:off x="5562720" y="2971800"/>
            <a:ext cx="228600" cy="2286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2" name="Straight Arrow Connector 44"/>
          <p:cNvCxnSpPr>
            <a:stCxn id="66" idx="8"/>
            <a:endCxn id="81" idx="5"/>
          </p:cNvCxnSpPr>
          <p:nvPr/>
        </p:nvCxnSpPr>
        <p:spPr>
          <a:xfrm>
            <a:off x="4800600" y="2525400"/>
            <a:ext cx="876960" cy="446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3" name="Straight Arrow Connector 46"/>
          <p:cNvCxnSpPr>
            <a:stCxn id="81" idx="6"/>
            <a:endCxn id="59" idx="6"/>
          </p:cNvCxnSpPr>
          <p:nvPr/>
        </p:nvCxnSpPr>
        <p:spPr>
          <a:xfrm flipV="1">
            <a:off x="5790960" y="2361960"/>
            <a:ext cx="1539000" cy="697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ranton, P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Text Placeholder 2" descr=""/>
          <p:cNvPicPr/>
          <p:nvPr/>
        </p:nvPicPr>
        <p:blipFill>
          <a:blip r:embed="rId1"/>
          <a:stretch/>
        </p:blipFill>
        <p:spPr>
          <a:xfrm>
            <a:off x="0" y="1165320"/>
            <a:ext cx="9144000" cy="56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Text Placeholder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rie, P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Text Placeholder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90920" y="4114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plash Lago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Text Placeholder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419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kiing in Salt Lake C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Text Placeholder 2" descr=""/>
          <p:cNvPicPr/>
          <p:nvPr/>
        </p:nvPicPr>
        <p:blipFill>
          <a:blip r:embed="rId1"/>
          <a:stretch/>
        </p:blipFill>
        <p:spPr>
          <a:xfrm>
            <a:off x="0" y="68400"/>
            <a:ext cx="9144000" cy="67942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n Francisc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Text Placeholder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s Ange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1T15:05:45Z</dcterms:created>
  <dc:creator>estewart92</dc:creator>
  <dc:description/>
  <dc:language>en-US</dc:language>
  <cp:lastModifiedBy>Owner</cp:lastModifiedBy>
  <dcterms:modified xsi:type="dcterms:W3CDTF">2011-02-27T21:18:51Z</dcterms:modified>
  <cp:revision>30</cp:revision>
  <dc:subject/>
  <dc:title>Slide 1</dc:title>
</cp:coreProperties>
</file>